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C068-FF1F-41D2-94BD-68514259B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161F-37D4-4F20-AA73-50BBE3BB7AC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17C1-696F-4995-AC0A-941D3BD361D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244E-176E-436E-BC8E-1A0EBFCFCE5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0B98-C9D4-437F-A90D-48F7B885579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00C6-A46A-404F-9CDA-E00ADC0C64D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D469-96D1-4720-A1C7-76BDD8D9E31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430A-F3F2-4B2E-9828-45217FED8DE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7595-7C00-4B33-A47A-2FB70CC48E8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4993-7B4E-43FC-801C-BC35F02086A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5B0-BF52-4C86-9CBE-D911BCE4241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39FE-6DE9-4D76-A87E-DCC4CA92985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9E4-A9B7-4C51-82D2-2B3E613E49A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8C24-9F43-485F-81E4-DE518EADCE8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50A4-51A7-4410-B057-8B898F2A4DF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8DB8-1766-4906-9C5E-B99AF7DED11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974-57D9-4823-B152-72D2D5149DA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B7ED-B3D3-414E-B8F3-512CF2311D6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F837-D5F4-495C-90C6-F4B3F308228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8A5-B0AE-4A3F-B49C-8E40DA78586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C0CE-56BE-493B-B214-48356E38E93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88FA-1145-4947-A026-148B9C9F695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ECB0-899F-4D7E-92E5-7C6C8EB2CC5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571-259A-4F4E-BA0C-63184208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E3B-91DF-4CE5-A40F-D0C04F61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177-60C4-44DF-BA32-05F473E3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707-B41F-4F85-BE7C-466BF37F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E4F1-6572-468E-A17A-1BCD69BB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3A83-5586-4CA1-B59C-73B2CCED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11D8-5213-42C3-BA40-AAAE2039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951D-5C0D-4EE6-8DE7-27CBEC7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E1CF-13BA-42F1-9451-348E2D54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124F-A0C6-467B-81D5-C02E481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85A9-3AF9-4A7F-813D-BE16D989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10E-F752-4635-86FB-1203741E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6554-78CD-4CD8-9DE3-BCC545F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D77-D182-4BD5-BC8E-2419A9E9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3616-BADF-4742-BD03-494AC6F8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9AA5-D7C5-408F-8775-A395017C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3521-1A3C-40DC-AEA8-97F0578A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C4EF-10A9-4181-AA80-BC8AD7B1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80D-14DC-4EA9-911E-9B5AB427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0B4-FFA2-408E-B673-FA10F438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EC4-A952-45BA-B2A2-A22189B7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1E8-5CD4-4057-B08C-896641B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E38-EE2A-4897-B613-32A91372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F87-6183-4451-90E4-EA7DB2C9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A6E7-B43F-4243-B80F-E50329536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159B-4B58-4394-BBA8-11EE3CB6914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yucky.discovery.com/flash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ctmonster.com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ids.gov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mathsdictionaryforkids.com/dictionary.html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en.childrenslibrary.org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otivating Young Readers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n Your Classroom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certain amount = prize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uild on their interests with similar genr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acceptance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park interest with ANY topic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 – get involved with others who like reading  - they learn through model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get to share what you read or writ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y the group size – large or smal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llow choice in what to read and how to respond and with whom they interac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k them about their likes and dislikes (especially about reading) **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del excitement/passion - give a booktal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ch students HOW to choose boo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erdisciplinary connection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should you know about the differences in motivations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ANGER: When students are rewarded for completing tasks, intrinsic motivations decrease </a:t>
            </a: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(Cameron &amp; Pierce, 1994)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ecreases in engagement time and attitudes toward reading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ho were rewarded LESS during free time read MORE (they attributed the cause of their reading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ternal facto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like interest &amp; curiosit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ho were rewarded MORE during free time read LESS (they attributed reading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ternal facto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like points, grades, &amp; sticker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should you car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insic motivations are imperative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felong, voluntary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insic motivations are vital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higher-order strategy developmen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eads to deeper meaning-mak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nal metacognitive monitoring, clarifying, and reflect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therwise, you have “Fake” readers! 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Kelly &amp; Clausen-Grace, 2008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akes student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ant to read?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Worthy, 2002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ngaging instru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 everyday excitement about boo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ing for enjoy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oice and variet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reading material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 students how to choose their own book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est Inventories (see examples in handou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John Guthrie (Concept Oriented Reading Instruction) CORI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matic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leva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spect, safety, clarity, help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4" name="Content Placeholder 2"/>
          <p:cNvSpPr/>
          <p:nvPr/>
        </p:nvSpPr>
        <p:spPr>
          <a:xfrm>
            <a:off x="434340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T 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ilure &amp; no feedbac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agmented topic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 control over 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rd to relate t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ly independent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ear, unimportance, unwillingness to scaffol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tting up classroom routines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Chapter 5, p. 60-61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variety and choice; self-sel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social intera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 points to “hold accountable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 students select books with Booktalks and 5 finger te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rategy conferences: (coaching, monitoring, and facilitat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ort response log (p. 72) -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’m wondering…I can see a clear picture of…I made a connection to…I was confused w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asuring Young Children’s Reading Moti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id the authors of your two readings learn about literacy motivation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ing - Interest Inventori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see handou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lementary Reading Attitude Surve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McKenna &amp; Kear, 1990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elp plan classroom libra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uage movement from beginning - middle - end of the school year (an increase of 5 or more points on subsections; 7-8 points on total score reflects growth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asuring Young Children’s Reading Moti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 to Read Profil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Gambrell et al, 1996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amines self-concept for reading and value of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he Reader Self-Perception Scal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Henk &amp; Melnick, 1995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vise ways to enhance children’s self-esteem in reading and to increase their motivation to rea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Online Reading Locations to Motivate Young Reader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’s TONS of informational text at a reading level kids can enjoy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mpare and contrast intrinsic and extrinsic literacy motivations and their connection to classroom culture and literacy instruction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Identify several ways to learn more about your students’ literacy motivations in ways that can guide instruction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Picture 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11280"/>
            <a:ext cx="8839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36" name="Picture 4" descr="Picture 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28600"/>
            <a:ext cx="792504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39" name="Picture 4" descr="Picture 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52280"/>
            <a:ext cx="876312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42" name="Picture 1030" descr="Picture 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3840" y="411120"/>
            <a:ext cx="88948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45" name="Picture 4" descr="Picture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430200"/>
            <a:ext cx="88394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are and contrast intrinsic and extrinsic literacy motivations and their connection to classroom culture and literacy instru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several ways to learn more about your students’ literacy motivations in ways that can guide instru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Chapter 3 - Picture Boo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RATEGY: Chapter 5 - Predic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ext week - Exploring Picture Books and Embedded Strategy Instruction (IN THE CURRICULUM LIBRARY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lots of time for indep.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 readers sort out what types of books they like and label th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iety: old/new, different format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nces to share with their pe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read-alou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ow enthusias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an for activities that go along with book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trinsic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ook logs with different genr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celerated Reade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elp set personal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ired reading – peer read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Keep modeling – they should keep doing it!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read-alouds with harder books – and easier book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literacy motiv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The reasons, purposes, and goals for reading and writing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y are multidimensional (many levels and layers) and diverse (many reason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you like to read?  Write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e you good at reading? Writ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 you read? What do you writ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y do you read? Why do you write?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ole play /drama to spark students’ interes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play books - talk about stori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licit a personal response (alternative to avoid writ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 up a reward syste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 up a fun place to read (comfortabl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a candy drawer after explain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ep a reading log - pages read, short summar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/reward/punishmen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elp set personal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ired reading – peer read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Keep modeling – they should keep doing it!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read-alouds with harder books – and easier book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ypes of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s that are internal to the learner and guided by personal interests and private experien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s that originate outside the learner (often guided by parents and/or teachers) - guided by points, stars, external rewar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609480" y="4114800"/>
            <a:ext cx="7620120" cy="20646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9480" y="2093760"/>
            <a:ext cx="7620120" cy="2064600"/>
          </a:xfrm>
          <a:prstGeom prst="rect">
            <a:avLst/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ight distinct motivation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or literacy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Sweet &amp; Guthrie, 1996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urios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liance motiv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k Avoida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John Guthrie (Concept Oriented Reading Instruction) CORI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matic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leva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spect, safety, clarity, help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Content Placeholder 2"/>
          <p:cNvSpPr/>
          <p:nvPr/>
        </p:nvSpPr>
        <p:spPr>
          <a:xfrm>
            <a:off x="434340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T MOTIVA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ilure &amp; no feedback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agmented topic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 control over choi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rd to relate t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ly independent rea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ear, unimportance, unwillingness to scaffol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eveloping Motivated, Lifelong Readers In Your Classroom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teachers help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5 minutes in small group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5 minutes as a whole 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4:24:31Z</dcterms:created>
  <dc:creator>Julie Coiro</dc:creator>
  <dc:description/>
  <dc:language>en-US</dc:language>
  <cp:lastModifiedBy>Julie Coiro</cp:lastModifiedBy>
  <dcterms:modified xsi:type="dcterms:W3CDTF">2010-09-23T14:37:45Z</dcterms:modified>
  <cp:revision>123</cp:revision>
  <dc:subject/>
  <dc:title>Metacognitive Strategy Instruction to Enhance Reading Comprehension</dc:title>
</cp:coreProperties>
</file>